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815-4E92-4B34-86F9-ACF8C26D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C3E-6113-4EDB-9703-874E1D37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A2E-6244-456E-BCC8-59986B9A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E6F-EE25-4E4B-820A-7AF46315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23A-9086-4D96-8113-BAB67662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4C8-239A-438C-8300-EE55687A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DEA-E1A3-4C0F-ACAA-B2BC79ED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8C5-3FBF-4BE5-8189-F0B478F0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26C-2E8B-47EF-941C-5CF62E6D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509-F0DA-47CE-BCC3-62842E6D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C20-7906-451A-899E-2B0BE7DB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6BD-874C-4A77-9124-85EF734F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68B0-7194-4131-9F19-9B4DB025D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04920"/>
            <a:ext cx="4510080" cy="33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egends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68720" y="2286000"/>
            <a:ext cx="4175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1371600"/>
            <a:ext cx="723888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ytelling is common to every culture because people like to listen to sto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ytelling has been used for thousands of y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Teacher\Local Settings\Temporary Internet Files\Content.IE5\LZCTRMYJ\MCj04357890000[1].wmf"/>
          <p:cNvPicPr/>
          <p:nvPr/>
        </p:nvPicPr>
        <p:blipFill>
          <a:blip r:embed="rId1"/>
          <a:stretch/>
        </p:blipFill>
        <p:spPr>
          <a:xfrm>
            <a:off x="6324480" y="3581280"/>
            <a:ext cx="2219400" cy="1658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447920" y="457200"/>
            <a:ext cx="62103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rytelling and Legen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itle 1" descr=""/>
          <p:cNvPicPr/>
          <p:nvPr/>
        </p:nvPicPr>
        <p:blipFill>
          <a:blip r:embed="rId1"/>
          <a:stretch/>
        </p:blipFill>
        <p:spPr>
          <a:xfrm>
            <a:off x="533520" y="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gend is a semi-true story, which has been passed on from person-to-person and has important mea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gend usually includes an element of truth, or is based on historic facts, but with 'mythical or magical qualities'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ends usually invol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roic charac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fantastic places and often involve the beliefs of the culture they come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Documents and Settings\Teacher\Local Settings\Temporary Internet Files\Content.IE5\BJO6J87X\MMAG00604_0000[1].gif"/>
          <p:cNvPicPr/>
          <p:nvPr/>
        </p:nvPicPr>
        <p:blipFill>
          <a:blip r:embed="rId2"/>
          <a:stretch/>
        </p:blipFill>
        <p:spPr>
          <a:xfrm>
            <a:off x="6172200" y="0"/>
            <a:ext cx="26668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 For activity 1, you will read the poem, “The Legend of Paul Bunyan.”  As you read the poem, pay attention to the characteristics of Bunya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he a real man?  Why or why no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think he became a leg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14600" y="0"/>
            <a:ext cx="4495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ctivity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5880" y="2971800"/>
            <a:ext cx="18129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leg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you think of any legends?  Let’s make a list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19520" y="304920"/>
            <a:ext cx="35049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ctivity #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 for Activity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will create your own legend poem using the same format as the poem you just rea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person/thing that is a legend.  Use physical and mental character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setting in your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graphic organiz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480" y="685800"/>
            <a:ext cx="805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ving Trouble Getting Started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41:45Z</dcterms:created>
  <dc:creator>FCPS</dc:creator>
  <dc:description/>
  <dc:language>en-US</dc:language>
  <cp:lastModifiedBy>FCPS</cp:lastModifiedBy>
  <dcterms:modified xsi:type="dcterms:W3CDTF">2009-04-01T20:40:17Z</dcterms:modified>
  <cp:revision>3</cp:revision>
  <dc:subject/>
  <dc:title>Slide 1</dc:title>
</cp:coreProperties>
</file>